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0827-C806-40D4-8C05-E0A977E5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F16-5BAA-47F3-ACCE-717F0FED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654E-4A2E-4777-994C-12BC5338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84D0-AD8E-4E54-B06F-A4D2D2F9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291-8593-41B0-8F6B-A36E0616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30BC-FCF8-4D0E-83C9-A3D475B3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FA29-2CBF-4974-8ECD-416D7331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0923-756A-4B20-A9B6-76575768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9873-D270-4466-8551-304B81B0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AAC3-F58F-49DA-9C6C-AF1D370B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BA9-F0AC-4D28-AA99-741D4546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950F-FFC9-4383-887E-E6D130FB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1B66-F817-49C2-8567-FBD3E66F2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y do I need to ask questions and collect da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ckb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do you know if you have enough money to buy something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can I determine appropriate tools of measure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y is it important for me to know how to measure different objects using different tools of measurement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do I know if an estimate is close to the actual measure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can I use a thermometer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y is it important that I know how to measure temperatur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can counting by five help me to determine time in an hou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at does telling time to the nearest five minutes mea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can I determine the number of hours in a day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en is it appropriate to estimate a measurement or valu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can I use data to help me understand the answers to the questions pose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are plane figures and solid figures related?  How are they differ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ere can we find geometric figures in the world around u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do we describe geometric figure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at are angle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at happens when I put geometric figures togeth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at will I see if I cut apart geometric figure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y is it important to identify fractions (thirds, sixths, eighths, tenths) as representations of equal parts of a whole or of a se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y is important to label fractions (thirds, sixths, eighths, tenths) as representations of equal parts of a whole or of a se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y is it important to compare fractions (thirds, sixths, eighths, tenths) as representations of equal parts of a whole or of a se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at is a fraction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In what way can I use a Venn diagram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at do the parts of a fraction tell about its numerator and denominator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at do the parts of a fraction tell about its numerator and denominator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If you have 2 fractions, how do you know which is greater or has more valu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do you know how many fractional parts make a whol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can subtraction help me to know if I added two numbers correctly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can addition help me know if I subtracted two numbers correctl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en one set of objects is compared to another, what are the possible outcom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Can I change the order of numbers when I add (or subtract)?  Why or why no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can I solve problems mentally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can estimation help me to know if my answer is correct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y should I understand place valu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are multiplication and addition relate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In what ways is a multiplication table helpfu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may I determine factors of multiplic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can I divide large collections of object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at are the different ways you can show or make (represent) a numb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at is the difference between place and valu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If you have two or more numbers, how do you know which is greater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y is it important to be able to count amounts of money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do you make sure you are given the correct change after you buy something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23:42:33Z</dcterms:created>
  <dc:creator>Abby Owens</dc:creator>
  <dc:description/>
  <dc:language>en-US</dc:language>
  <cp:lastModifiedBy>Abby Owens</cp:lastModifiedBy>
  <dcterms:modified xsi:type="dcterms:W3CDTF">2010-05-27T23:58:45Z</dcterms:modified>
  <cp:revision>31</cp:revision>
  <dc:subject/>
  <dc:title>Why do I need to ask questions and collect data?</dc:title>
</cp:coreProperties>
</file>